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5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6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49A8-4B5F-41AF-A779-07026240B09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5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20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7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7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3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5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7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89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5200" cy="3730320"/>
          </a:xfrm>
          <a:prstGeom prst="rect">
            <a:avLst/>
          </a:prstGeom>
          <a:ln w="0">
            <a:noFill/>
          </a:ln>
        </p:spPr>
      </p:sp>
      <p:sp>
        <p:nvSpPr>
          <p:cNvPr id="191" name="Notes Placeholder 1"/>
          <p:cNvSpPr/>
          <p:nvPr/>
        </p:nvSpPr>
        <p:spPr>
          <a:xfrm>
            <a:off x="679320" y="4722840"/>
            <a:ext cx="54468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F55-2DEC-4903-A529-FD4DE4356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BAF-0FBC-4E8D-B9AC-1AD16D61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5AF-A110-49E1-984B-E81D386C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550-FFAC-4010-A05E-A74B6796E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D06-4AE2-4311-9EC8-BE9493A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415-F7E4-4E49-BF41-2ADB28CBB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9033-8D29-450B-A992-67EAF99C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F6A1-0326-48CA-9FFD-6A54D7CD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DEA3-FEC4-4DB7-96AA-2E95B16D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3257-6BFE-4AE3-86CD-48A2EFDE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048-E49B-43E5-87C9-5B2963D0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CBB7-E135-4B3A-9668-A0518132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ADC8-45D4-4EC0-8531-1809096C21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7308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6" descr="LOGO CE-EN-quadri.eps"/>
          <p:cNvPicPr/>
          <p:nvPr/>
        </p:nvPicPr>
        <p:blipFill>
          <a:blip r:embed="rId2"/>
          <a:stretch/>
        </p:blipFill>
        <p:spPr>
          <a:xfrm>
            <a:off x="3905280" y="309600"/>
            <a:ext cx="1584360" cy="1100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4230720" y="6669000"/>
            <a:ext cx="68436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144000" cy="98892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5" descr="LOGO CE-EN-NEG-quadri.ai"/>
          <p:cNvPicPr/>
          <p:nvPr/>
        </p:nvPicPr>
        <p:blipFill>
          <a:blip r:embed="rId2"/>
          <a:stretch/>
        </p:blipFill>
        <p:spPr>
          <a:xfrm>
            <a:off x="3921120" y="3240"/>
            <a:ext cx="1511280" cy="151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262400" y="666900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ctr">
              <a:tabLst>
                <a:tab algn="l" pos="0"/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38360" indent="-28260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36520" indent="-2253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92280" indent="-225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49480" indent="-225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496360" cy="2160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Verdana"/>
              </a:rPr>
              <a:t>ERASMUS +</a:t>
            </a:r>
            <a:br>
              <a:rPr sz="40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Key Action 2 Cooperation for innovation and exchange of good practices</a:t>
            </a:r>
            <a:br>
              <a:rPr sz="4000"/>
            </a:br>
            <a:br>
              <a:rPr sz="36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Capacity building</a:t>
            </a:r>
            <a:br>
              <a:rPr sz="3200"/>
            </a:b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for higher education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of the internationalisation dimension of higher education system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ntroduction of Bologna-type reforms (three-level cycle system, quality assurance, evaluation, etc.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implementation of transparency tools such as credit systems, accreditation procedures, guidelines for the recognition of prior and non-formal learning etc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establishment of National Qualification Framework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and implementation of internal and external quality assurance systems/guidelin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 and implementation of new approaches and tools for policy making and monitoring, including the establishment of representative bodies, organisations or associa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the integration of education, research and innov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629B-ED69-491F-9FEC-98019F7632BF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8000"/>
          </a:bodyPr>
          <a:p>
            <a:pPr marL="197640" indent="-19764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Through for instance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surveys and studies on specific reform issue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policy and expert advice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conferences, seminars, workshops, round tables (which should result in operational conclusions and recommendations)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staff trainings on policy issues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staff trainings (which may include the production of training manuals and guidelines) involving teaching and support staff, technicians as well as university administrators and managers.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428040" indent="-16380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organisation of awareness-raising campaign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97640" indent="-19764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C8FA-8AD4-4368-88DF-0E0A54EFA59E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1000"/>
          </a:bodyPr>
          <a:p>
            <a:pPr marL="173880" indent="-17388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Who can participate ?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y public or private organisation offering higher education degrees or other recognised tertiary education level qualifications (defined as </a:t>
            </a:r>
            <a:r>
              <a:rPr b="1" lang="en-GB" sz="1600" spc="-1" strike="noStrike">
                <a:solidFill>
                  <a:srgbClr val="0f5494"/>
                </a:solidFill>
                <a:latin typeface="Verdana"/>
              </a:rPr>
              <a:t>higher education institution </a:t>
            </a: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d recognised as such by the competent national authority</a:t>
            </a: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ny public or private organisation active in the labour market or in the fields of education. For example, such organisation can be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public, private small medium or large enterprise (including social enterprises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public body at local, regional or national level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social partner or other representative of working life, including chambers of commerce, craft/professional associations and trade unions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research institute, foundatio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76560" indent="-144000">
              <a:spcBef>
                <a:spcPts val="400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a non-profit organisation, association, NGO (including </a:t>
            </a: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national or international associations or networks of higher education institutions, students or teachers associations, etc.)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	</a:t>
            </a: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Etc…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73880" indent="-173880">
              <a:spcBef>
                <a:spcPts val="349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F04E-4EB0-4299-A731-74175EE29457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700280"/>
            <a:ext cx="8445240" cy="3024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79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2060"/>
                </a:solidFill>
                <a:latin typeface="Verdana"/>
                <a:ea typeface="Verdana"/>
              </a:rPr>
              <a:t>Who can apply?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a higher education institution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an association or organisation of higher education institutions;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60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d4a81"/>
                </a:solidFill>
                <a:uFillTx/>
                <a:latin typeface="Verdana"/>
              </a:rPr>
              <a:t>only for Structural Projects: a legally recognised </a:t>
            </a: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national or international rector, teacher or student organ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 </a:t>
            </a:r>
            <a:r>
              <a:rPr b="0" lang="en-US" sz="2400" spc="-1" strike="noStrike">
                <a:solidFill>
                  <a:srgbClr val="0d4a81"/>
                </a:solidFill>
                <a:latin typeface="Verdana"/>
              </a:rPr>
              <a:t>located in a Programme or a Partner Country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</a:rPr>
              <a:t>Higher education institutions (HEIs) located in a Programme Country must hold a valid Erasmus Charter for Higher Education (ECHE). An ECHE is not required for participating HEIs in Partner Countri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583200" indent="-270720">
              <a:spcBef>
                <a:spcPts val="451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Applicant institutions must have a PIC number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F182-E316-400E-88D9-C5F62DA56BB8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4360" y="119700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Centrally managed by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Duration: 2 or 3 years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Verdana"/>
              </a:rPr>
              <a:t>Maximum grant: </a:t>
            </a: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Alignement:  1 million € max (with possibility of less for small envelopes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Unit costs and lump sums wherever possibl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30840" indent="-330840">
              <a:spcBef>
                <a:spcPts val="45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d4a81"/>
                </a:solidFill>
                <a:latin typeface="Verdana"/>
              </a:rPr>
              <a:t>Will cover programme and partner country staff costs (up to 40% max.), equipment for partner countries (up to 30% max), mobility related to the activities required to reach objectives, other costs (translation, printing etc) and overheads (up to 2,5%). Minimum 10% co-financing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ctr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383400" algn="just">
              <a:spcBef>
                <a:spcPts val="451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933D-5F27-48D1-BE13-10954D9773A5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3851280" y="2060640"/>
            <a:ext cx="1952640" cy="1218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Verdana"/>
                <a:ea typeface="Verdana"/>
              </a:rPr>
              <a:t>Conclusions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349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Focus on reforms and capacity building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Expected impact: organisations, institutions and system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Openess and flexibility of the instru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Bottom up approach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Exchange of practices / experience among pe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601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Articulation with country/region needs and local policy priorities (priorities, consultation proces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349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1628-1FA3-4AB5-8FA2-EF461255D0C2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0920" y="2491920"/>
            <a:ext cx="4535640" cy="20876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marL="355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624"/>
                </a:solidFill>
                <a:latin typeface="Verdana"/>
              </a:rPr>
              <a:t>Thank you for your attention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2000"/>
          </a:bodyPr>
          <a:p>
            <a:pPr marL="313920" indent="-3139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What is it abou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2 different starting poin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Continuation and expansion of the current success stories (Alfa, Edulink and Tempu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A funding mechanism to support cooperation between Europe and eligible Partner Countries in higher educat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13920" indent="-3139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ED8F-A6B3-4186-A3D9-12371A7E4683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45000"/>
          </a:bodyPr>
          <a:p>
            <a:pPr marL="128520" indent="-12852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Objectiv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Improve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quality and relevance of higher education in </a:t>
            </a: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partner countrie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Enhance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competences, skills and relevance of HE for the labour market and society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management, governance and innovation capacities, as well as the internationalisation of  HEIs 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capacities of national authorities to modernise their higher education system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Foster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regional integration and cooperation across different regions of the world through joint initiatives, sharing of good practices and cooperation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d4a81"/>
                </a:solidFill>
                <a:latin typeface="Verdana"/>
              </a:rPr>
              <a:t>Promote</a:t>
            </a: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d4a81"/>
                </a:solidFill>
                <a:latin typeface="Verdana"/>
              </a:rPr>
              <a:t>voluntary convergence with EU developments in higher education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people-to-people contacts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  <a:p>
            <a:pPr marL="128520" indent="-128520">
              <a:spcBef>
                <a:spcPts val="374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Support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:</a:t>
            </a:r>
            <a:endParaRPr b="0" i="1" lang="en-US" sz="1500" spc="-1" strike="noStrike">
              <a:solidFill>
                <a:srgbClr val="0f5494"/>
              </a:solidFill>
              <a:latin typeface="Verdana"/>
            </a:endParaRPr>
          </a:p>
          <a:p>
            <a:pPr lvl="1" marL="306360" indent="-128520">
              <a:spcBef>
                <a:spcPts val="374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The objectives of the Communications </a:t>
            </a: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EU Higher Education in the World </a:t>
            </a:r>
            <a:r>
              <a:rPr b="0" lang="fr-BE" sz="1500" spc="-1" strike="noStrike">
                <a:solidFill>
                  <a:srgbClr val="0d4a81"/>
                </a:solidFill>
                <a:latin typeface="Verdana"/>
              </a:rPr>
              <a:t>and the </a:t>
            </a:r>
            <a:r>
              <a:rPr b="1" lang="fr-BE" sz="1500" spc="-1" strike="noStrike">
                <a:solidFill>
                  <a:srgbClr val="0d4a81"/>
                </a:solidFill>
                <a:latin typeface="Verdana"/>
              </a:rPr>
              <a:t>Agenda for Change</a:t>
            </a:r>
            <a:endParaRPr b="1" lang="en-US" sz="15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B53-742B-486D-A5B4-7404B2391A03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11280" y="1916280"/>
            <a:ext cx="8362800" cy="3528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lvl="1" marL="395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d4a81"/>
                </a:solidFill>
                <a:latin typeface="Verdana"/>
              </a:rPr>
              <a:t>Some Background for Latin America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46,5 million Euro available for 2014-2017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d4a81"/>
                </a:solidFill>
                <a:latin typeface="Verdana"/>
              </a:rPr>
              <a:t>1st Call in September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f5494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Focus on participation of higher education institutions from lower middle-income countries and from less developed region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79640" indent="-285840">
              <a:spcBef>
                <a:spcPts val="601"/>
              </a:spcBef>
              <a:buClr>
                <a:srgbClr val="0d4a81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1E44-1A4D-490B-8882-2CE1A67606DE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052640"/>
            <a:ext cx="8686800" cy="2016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36000"/>
          </a:bodyPr>
          <a:p>
            <a:pPr marL="122760" indent="-122760" algn="ctr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d4a81"/>
                </a:solidFill>
                <a:latin typeface="Tahoma"/>
              </a:rPr>
              <a:t>Programme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33 (28 Member States, Turkey, FYRoM, Iceland, Liechtenstein and Norway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4a81"/>
                </a:solidFill>
                <a:latin typeface="Tahoma"/>
              </a:rPr>
              <a:t>Partner countr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Regions: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1:</a:t>
            </a:r>
            <a:r>
              <a:rPr b="1" lang="fr-BE" sz="1800" spc="-1" strike="noStrike">
                <a:solidFill>
                  <a:srgbClr val="0d4a81"/>
                </a:solidFill>
                <a:latin typeface="Tahoma"/>
              </a:rPr>
              <a:t> </a:t>
            </a: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Western Balkans (countries not having a NA)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2: Neighbouring countries in Eastern Europ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3: Neighbouring countries in the Southern Mediterranea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4: Rus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5: A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6: Central Asi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7: Latin Americ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8: </a:t>
            </a:r>
            <a:r>
              <a:rPr b="0" lang="en-GB" sz="1800" spc="-1" strike="noStrike">
                <a:solidFill>
                  <a:srgbClr val="0d4a81"/>
                </a:solidFill>
                <a:latin typeface="Tahoma"/>
              </a:rPr>
              <a:t>Iran, Iraq, Yemen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d4a81"/>
                </a:solidFill>
                <a:latin typeface="Tahoma"/>
              </a:rPr>
              <a:t>9: </a:t>
            </a: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South Africa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d4a81"/>
                </a:solidFill>
                <a:latin typeface="Tahoma"/>
              </a:rPr>
              <a:t>10: ACP countries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22760" indent="-122760">
              <a:lnSpc>
                <a:spcPct val="100000"/>
              </a:lnSpc>
              <a:spcBef>
                <a:spcPts val="451"/>
              </a:spcBef>
              <a:buClr>
                <a:srgbClr val="0f549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DC05-E755-4C76-9094-C9E0D777BD49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3" name="Picture 2" descr="C:\Users\payerar\Desktop\Photo der Erde.jpg"/>
          <p:cNvPicPr/>
          <p:nvPr/>
        </p:nvPicPr>
        <p:blipFill>
          <a:blip r:embed="rId1"/>
          <a:stretch/>
        </p:blipFill>
        <p:spPr>
          <a:xfrm>
            <a:off x="5176800" y="4745160"/>
            <a:ext cx="3967200" cy="2112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46000"/>
          </a:bodyPr>
          <a:p>
            <a:pPr marL="156960" indent="-15696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How does it work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Short and mid-term projects (2 or 3 years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Put forward by consortia of institutions from EU and Partner countrie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Selected on the basis of open and highly competitive calls for proposal (approx, 15% succes rate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Each project is coordinated/represented by a coordinating HEI from the EU or the Partner countries (power of attorney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5 main principles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Targets: institutions and systems rather than individual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Relevance to needs of countries and institutio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International cooperation as a mean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Bottom-up approa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d4a81"/>
                </a:solidFill>
                <a:latin typeface="Verdana"/>
              </a:rPr>
              <a:t>Emphasis put on institutional cooperation (commitment and impact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56960" indent="-15696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2EF-6A92-4509-BDD2-242F552C357B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4000"/>
          </a:bodyPr>
          <a:p>
            <a:pPr marL="183960" indent="-18396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Activities for higher education 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Focus on curriculum development, modernisation of teaching approaches, of governance and functioning of HEIs, strengthening relations between HEIs and the wider economic and social environment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d4a81"/>
                </a:solidFill>
                <a:latin typeface="Verdana"/>
              </a:rPr>
              <a:t>Impact at institutional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Structural Project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4a81"/>
                </a:solidFill>
                <a:latin typeface="Verdana"/>
              </a:rPr>
              <a:t>Focus on modernisation of policies, governance and management of higher education systems, strengthening of relations between higher education systems and the wider societal and economic environment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600" spc="-1" strike="noStrike">
                <a:solidFill>
                  <a:srgbClr val="0d4a81"/>
                </a:solidFill>
                <a:latin typeface="Verdana"/>
              </a:rPr>
              <a:t>Impact on </a:t>
            </a:r>
            <a:r>
              <a:rPr b="1" i="1" lang="en-GB" sz="1600" spc="-1" strike="noStrike">
                <a:solidFill>
                  <a:srgbClr val="0d4a81"/>
                </a:solidFill>
                <a:latin typeface="Verdana"/>
              </a:rPr>
              <a:t>higher education systems and reforms at national and/or regional level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3960" indent="-18396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8FEF-2866-473D-9A8F-BEB69014E2C3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3000"/>
          </a:bodyPr>
          <a:p>
            <a:pPr marL="180720" indent="-18072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development, testing and adaptation of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curricula, courses, learning materials and tools, learning and teaching methodologies and pedagogical approaches, especially those delivering key competences and basic skills, language skills, entrepreneurship education, and focusing on the use of ICT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ew forms of practical training schemes and study of real life cases in business and industry, university-enterprise cooperation, including the creation of business start-up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new forms of learning and providing education and training, notably strategic use of open and flexible learning, virtual mobility, open educational resources and better exploitation of the ICT potential 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guidance, counselling and coaching methods and tools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tools and methods for professionalization and professional development of academic and administrative staff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391320" indent="-149760">
              <a:spcBef>
                <a:spcPts val="349"/>
              </a:spcBef>
              <a:buClr>
                <a:srgbClr val="0f5494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</a:rPr>
              <a:t>quality assurance at programme and institution level</a:t>
            </a:r>
            <a:endParaRPr b="1" lang="en-US" sz="1400" spc="-1" strike="noStrike">
              <a:solidFill>
                <a:srgbClr val="0f5494"/>
              </a:solidFill>
              <a:latin typeface="Verdana"/>
            </a:endParaRPr>
          </a:p>
          <a:p>
            <a:pPr marL="180720" indent="-180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F2E5-57B1-4C6F-A1E8-E7A3BDD5460B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267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59000"/>
          </a:bodyPr>
          <a:p>
            <a:pPr marL="201240" indent="-201240" algn="ctr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Verdana"/>
                <a:ea typeface="Verdana"/>
              </a:rPr>
              <a:t>Examples of activitie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4a81"/>
                </a:solidFill>
                <a:latin typeface="Verdana"/>
              </a:rPr>
              <a:t>Joint Projects: 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new governance and management systems and structures, modern university services e.g. for financial management, international relations, student counselling and guidance, academic affairs and research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strengthening of the internationalisation of HEI and the capacity to network effectively in research, scientific and technological innovation (international openness of curricula, student services, inter-institutional mobility schemes, scientific cooperation and knowledge transfer…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upgrading of facilities necessary to the implementation of innovative practices (e.g. for new curriculum and teaching methods, for the development of new services, etc.)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f5494"/>
                </a:solidFill>
                <a:latin typeface="Verdana"/>
              </a:rPr>
              <a:t>organisation of staff trainings involving teaching and support staff, technicians as well as university administrators and managers.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201240" indent="-201240">
              <a:spcBef>
                <a:spcPts val="400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4284720" y="6616800"/>
            <a:ext cx="5745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02F-9B6F-42AA-97C6-0F49E156ADA7}" type="slidenum">
              <a:rPr b="1" lang="en-GB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LENNAN Deirdre (EAC)</cp:lastModifiedBy>
  <cp:lastPrinted>2013-09-18T09:56:39Z</cp:lastPrinted>
  <dcterms:modified xsi:type="dcterms:W3CDTF">2014-06-23T13:22:16Z</dcterms:modified>
  <cp:revision>402</cp:revision>
  <dc:subject/>
  <dc:title>Slide 1</dc:title>
</cp:coreProperties>
</file>